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A19F-498C-4E27-8049-C47C8B7D3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D8CD-F0AC-4EF4-90D7-40FCB26FD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2679-D58A-44AA-B30C-351B2F129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598E-C195-4562-92EB-8A460BEEC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AB601-EAA5-4306-A556-39145C6C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0A89D-5583-4CEC-B839-BBF36C02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8F25E-E09F-4B5D-A731-B4EE5F77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B28B5-138E-44BC-8E42-3605258D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82972-FF92-458C-965D-EC39315E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ACA13-03C1-4977-A0A1-95E4FD9B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E7E79-D3E4-4766-8543-93792F6E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7C94-4F85-4E40-A95E-4DCD474E6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22DEB-F57B-4E20-9FCA-D00F0205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BCE11-C708-4535-955E-B270B876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72C25-E961-4C5A-8CE1-96721AB8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C5B90-917A-4BAC-AEEC-1D192CAF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96D88-6F09-434D-939C-3662EB2C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C09B-5263-4147-A3A9-04171D79F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5D39-A0B3-4CFC-A22C-3EE9EE9BD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9EEC-D02B-4E9D-901B-BECD2D375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C36D-5C93-495E-83A9-3D22F842A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EC5B-8F28-49C3-938F-41DD4A1AE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41AF-C1AB-4A98-B017-6BB51F1EB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4BC9-B03A-498F-AC63-D661D91AB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360" y="63961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7.</a:t>
            </a:r>
            <a:fld id="{6BEB7C08-9CBB-49BF-A67B-476A0D4757E2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2438280"/>
            <a:ext cx="9005760" cy="1049400"/>
            <a:chOff x="0" y="2438280"/>
            <a:chExt cx="9005760" cy="1049400"/>
          </a:xfrm>
        </p:grpSpPr>
        <p:grpSp>
          <p:nvGrpSpPr>
            <p:cNvPr id="40" name=""/>
            <p:cNvGrpSpPr/>
            <p:nvPr/>
          </p:nvGrpSpPr>
          <p:grpSpPr>
            <a:xfrm>
              <a:off x="290520" y="2546280"/>
              <a:ext cx="708120" cy="471600"/>
              <a:chOff x="290520" y="2546280"/>
              <a:chExt cx="708120" cy="471600"/>
            </a:xfrm>
          </p:grpSpPr>
          <p:sp>
            <p:nvSpPr>
              <p:cNvPr id="41" name=""/>
              <p:cNvSpPr/>
              <p:nvPr/>
            </p:nvSpPr>
            <p:spPr>
              <a:xfrm>
                <a:off x="290520" y="2546280"/>
                <a:ext cx="434880" cy="471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73200" y="2546280"/>
                <a:ext cx="32544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414360" y="2968560"/>
              <a:ext cx="734760" cy="471600"/>
              <a:chOff x="414360" y="2968560"/>
              <a:chExt cx="734760" cy="471600"/>
            </a:xfrm>
          </p:grpSpPr>
          <p:sp>
            <p:nvSpPr>
              <p:cNvPr id="44" name=""/>
              <p:cNvSpPr/>
              <p:nvPr/>
            </p:nvSpPr>
            <p:spPr>
              <a:xfrm>
                <a:off x="414360" y="2968560"/>
                <a:ext cx="421560" cy="47160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3360" y="2968560"/>
                <a:ext cx="36576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2895480"/>
              <a:ext cx="557280" cy="419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5040" y="2438280"/>
              <a:ext cx="28440" cy="10494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16080" y="3259800"/>
              <a:ext cx="8689680" cy="5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CA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CA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CA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817B226-E394-4F1D-916D-615374B74EA4}" type="slidenum">
              <a:rPr b="0" lang="en-CA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14600"/>
            <a:ext cx="685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NET/SD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A687-D6F9-4D36-B02C-0E44D86529F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5360" y="40644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17-3   SONET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38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Each synchronous transfer signal STS-n is composed of 8000 frames. Each frame is a two-dimensional matrix of bytes with 9 rows by 90 × n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rame, Byte, and Bit Transmission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TS-1 Frame Format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524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4872-E547-4442-8098-88F1E22EE2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22860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1066680"/>
            <a:ext cx="8763120" cy="180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8440" y="457200"/>
            <a:ext cx="50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4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An STS-1 and an STS-n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8520" y="2689200"/>
            <a:ext cx="836460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9DA3-298E-4A5A-AA01-E8DF24F7BB6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000" y="762120"/>
            <a:ext cx="49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5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STS-1 frames in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8866440" cy="238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B12C-CBE0-4B89-8D91-5C390272027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8640" y="441972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360" y="2759040"/>
            <a:ext cx="8077320" cy="1556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 SONET STS-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ignal is transmitted at 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8000 frames per sec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57200" y="2023920"/>
            <a:ext cx="1139760" cy="563760"/>
            <a:chOff x="457200" y="2023920"/>
            <a:chExt cx="1139760" cy="56376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3976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9148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CE3E-CE27-48B6-A52C-F4001D965D2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8640" y="388620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360" y="2759040"/>
            <a:ext cx="807732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ach byte in a SONET frame can carry a digitized voice cha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57200" y="2023920"/>
            <a:ext cx="1139760" cy="563760"/>
            <a:chOff x="457200" y="2023920"/>
            <a:chExt cx="1139760" cy="56376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3976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9148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FF61-49FA-4E68-9721-D2907435F44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295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Find the data rate of an STS-1 sig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259092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STS-1, like other STS signals, sends 8000 frames per second. Each STS-1 frame is made of 9 by (1 × 90) bytes. Each byte is made of 8 bits. The data rat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39760" y="0"/>
            <a:ext cx="24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Times New Roman"/>
              </a:rPr>
              <a:t>Example 17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7898040" cy="37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9D93-A7A6-4A4B-9EFC-47278F6E4FD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523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Find the data rate of an STS-3 sig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259092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STS-3, like other STS signals, sends 8000 frames per second. Each STS-3 frame is made of 9 by (3 × 90) bytes. Each byte is made of 8 bits. The data rat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39760" y="0"/>
            <a:ext cx="24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Times New Roman"/>
              </a:rPr>
              <a:t>Example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4761000"/>
            <a:ext cx="7980480" cy="42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4DBB-74A5-4BD4-8651-F2445732DB5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8640" y="441972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360" y="2759040"/>
            <a:ext cx="8077320" cy="1556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 SONET, the data rate of an STS-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ignal is 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times the data r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f an STS-1 sig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57200" y="2023920"/>
            <a:ext cx="1139760" cy="563760"/>
            <a:chOff x="457200" y="2023920"/>
            <a:chExt cx="1139760" cy="56376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3976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9148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CE68-C267-4525-A551-74006942678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12952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What is the duration of an STS-1 frame? STS-3 frame? STS-n fr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31068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SONET, 8000 frames are sent per second. This means that the duration of an STS-1, STS-3, or STS-n frame is the same and equal to 1/8000 s, o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125 μ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39760" y="0"/>
            <a:ext cx="24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Times New Roman"/>
              </a:rPr>
              <a:t>Example 1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B4C1-5E77-4DC0-A86A-02CC2A59528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8640" y="388620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5360" y="2759040"/>
            <a:ext cx="807732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ONET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uration of any frame is 125 μ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7200" y="2023920"/>
            <a:ext cx="1139760" cy="563760"/>
            <a:chOff x="457200" y="2023920"/>
            <a:chExt cx="1139760" cy="56376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3976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9148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9206-D106-4288-8121-FC3BCEF7C95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8640" y="388620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360" y="2759040"/>
            <a:ext cx="807732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ONET was developed by ANSI;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DH was developed by ITU-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57200" y="1981080"/>
            <a:ext cx="1139760" cy="563760"/>
            <a:chOff x="457200" y="1981080"/>
            <a:chExt cx="1139760" cy="56376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457200" y="1981080"/>
              <a:ext cx="113976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91480" y="198108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BC92-615B-43BE-A13D-32A138FD8B6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8800" y="380880"/>
            <a:ext cx="42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6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STS-1 frame overh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640080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66680" y="1368360"/>
            <a:ext cx="8809200" cy="411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DB3B-F292-4CA4-B423-6A8180CBFB5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7000" y="38088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7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STS-1 frame: section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280" y="63244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46080" y="1476360"/>
            <a:ext cx="7251840" cy="390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E605-8E40-4517-86FF-EB42E117EF5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8640" y="441972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360" y="2759040"/>
            <a:ext cx="8077320" cy="1556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ection overhead is recalculated for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each SONET de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(regenerators and multiplexer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57200" y="1947960"/>
            <a:ext cx="1139760" cy="563400"/>
            <a:chOff x="457200" y="1947960"/>
            <a:chExt cx="1139760" cy="563400"/>
          </a:xfrm>
        </p:grpSpPr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457200" y="1947960"/>
              <a:ext cx="113976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91480" y="194796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7456-51DE-4F69-896F-CEF0F280AE6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2280" y="22860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1066680"/>
            <a:ext cx="8763120" cy="180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8440" y="45720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8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STS-1 frame: line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63244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990720" y="1793880"/>
            <a:ext cx="7238880" cy="399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8D0B-4342-4637-A141-AC138826909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7000" y="38088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9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STS-1 frame: path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640080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66640" y="1295280"/>
            <a:ext cx="8401320" cy="501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FE72-9FD7-4857-BF33-D961F6A4B5E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8640" y="396252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360" y="2759040"/>
            <a:ext cx="807732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th overhead is only calculated for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end-to-end (at STS multiplexer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2023920"/>
            <a:ext cx="1139760" cy="563760"/>
            <a:chOff x="457200" y="2023920"/>
            <a:chExt cx="1139760" cy="56376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3976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9148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2857-2888-4F94-A7EA-C9C92EA0520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03120" y="76212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Table 17.2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Overhead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22120" y="1295280"/>
            <a:ext cx="8464680" cy="456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DBAA-E4E8-4ED2-846F-333F7FCE0F7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44360" y="360360"/>
            <a:ext cx="8856720" cy="54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DDFD-5A83-476B-AFCB-F9E3872BF25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12952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What is the user data rate of an STS-1 frame (without considering the overhead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310680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The user data part in an STS-1 frame is made of 9 rows and 84 columns (90 - 3 line and section overhead – 1 path overhead - 2 fix stuffing). So we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STS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r data rate= 8000 </a:t>
            </a:r>
            <a:r>
              <a:rPr b="0" lang="en-CA" sz="2800" spc="-1" strike="noStrike">
                <a:solidFill>
                  <a:srgbClr val="000000"/>
                </a:solidFill>
                <a:latin typeface="Tunga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9 </a:t>
            </a:r>
            <a:r>
              <a:rPr b="0" lang="en-CA" sz="2800" spc="-1" strike="noStrike">
                <a:solidFill>
                  <a:srgbClr val="000000"/>
                </a:solidFill>
                <a:latin typeface="Tunga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(1 </a:t>
            </a:r>
            <a:r>
              <a:rPr b="0" lang="en-CA" sz="2800" spc="-1" strike="noStrike">
                <a:solidFill>
                  <a:srgbClr val="000000"/>
                </a:solidFill>
                <a:latin typeface="Tunga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84) </a:t>
            </a:r>
            <a:r>
              <a:rPr b="0" lang="en-CA" sz="2800" spc="-1" strike="noStrike">
                <a:solidFill>
                  <a:srgbClr val="000000"/>
                </a:solidFill>
                <a:latin typeface="Tunga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8 = 48.384 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39760" y="0"/>
            <a:ext cx="24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Times New Roman"/>
              </a:rPr>
              <a:t>Example 17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62F8-8079-4A1C-9073-4F667596D59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31640" y="492120"/>
            <a:ext cx="8320320" cy="51958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535640" y="583236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SPE= 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3CD4-50AF-4354-ADB0-F16ECA69991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7160" y="40644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17-1  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005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Let us first introduce the architecture of a SONET system: signals, devices, and conn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ignals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ONET Devices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9482-B9B5-4FCC-A5AF-9C85EEB8A81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2280" y="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838080"/>
            <a:ext cx="8763120" cy="180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3760" y="228600"/>
            <a:ext cx="66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10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Offsetting of SPE related to frame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640080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76400" y="1039680"/>
            <a:ext cx="5110200" cy="520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74CD-9A56-4685-AFE6-2CF64C00376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280" y="114300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840" y="380880"/>
            <a:ext cx="7300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11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The use of Administrative unit 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H1 and H2 pointers are used to show the start of an SPE in a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63244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58680" y="2436840"/>
            <a:ext cx="6737400" cy="274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07C4-53AC-40E2-9690-62B4C943AFA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15238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What are the values of H1 and H2 if an SPE starts at byte number 650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31068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The number 650 can be expressed in four hexadecimal digits as 0x028A. This means the value of H1 is </a:t>
            </a:r>
            <a:r>
              <a:rPr b="1" i="1" lang="en-CA" sz="2800" spc="-1" strike="noStrike">
                <a:solidFill>
                  <a:srgbClr val="3333cc"/>
                </a:solidFill>
                <a:latin typeface="Times New Roman"/>
              </a:rPr>
              <a:t>0x02</a:t>
            </a: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 and the value of H2 is </a:t>
            </a:r>
            <a:r>
              <a:rPr b="1" i="1" lang="en-CA" sz="2800" spc="-1" strike="noStrike">
                <a:solidFill>
                  <a:srgbClr val="3333cc"/>
                </a:solidFill>
                <a:latin typeface="Times New Roman"/>
              </a:rPr>
              <a:t>0x8A</a:t>
            </a: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9760" y="0"/>
            <a:ext cx="24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Times New Roman"/>
              </a:rPr>
              <a:t>Example 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7CA7-D2A2-4587-8206-8993BA91F85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52360" y="1886040"/>
            <a:ext cx="6847200" cy="36590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232000" y="452520"/>
            <a:ext cx="5327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000" spc="-1" strike="noStrike">
                <a:solidFill>
                  <a:srgbClr val="00339a"/>
                </a:solidFill>
                <a:latin typeface="TimesNewRomanPSMT"/>
                <a:ea typeface="TimesNewRomanPSMT"/>
              </a:rPr>
              <a:t>SONET Hierarch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C540-6CB3-4C16-9D04-9D9631C3984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7160" y="406440"/>
            <a:ext cx="60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17-6   VIRTUAL TRIBUT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144792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NET is designed to carry broadband payloads. Current digital hierarchy data rates, however, are lower than STS-1. To make SONET backward-compatible with the current hierarchy, its frame design includes a system of virtual tributaries (VTs).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irtual tributary is a partial payload that can be inserted into an STS-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280" y="53848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ypes of V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240" y="49086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B038-612E-45A8-A36D-58F3E2E58B0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1680" y="76212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25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Virtual tribut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227240" y="2317680"/>
            <a:ext cx="6316560" cy="255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30D9-340E-4DB2-BB47-75DDD9A97EF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9880" y="76212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26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Virtual tributary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194600" cy="385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3564-3DA3-47AD-B40C-A45B5AA6D87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7160" y="40644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17-4   STS MULTIPLE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138456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In SONET, frames of lower rate can be synchronously time-division multiplexed into a higher-rate frame. For example, three STS-1 signals (channels) can be combined into one STS-3 signal (channel), four </a:t>
            </a:r>
            <a:br>
              <a:rPr sz="2800"/>
            </a:b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STS-3s can be multiplexed into one STS-12, and so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yte Interleaving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ncatenated Signal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Add/Drop 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524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8DD7-31D6-432A-9E34-1B26AD95907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8440" y="38088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7.1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S multiplexing/demultiple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6040" y="2638440"/>
            <a:ext cx="8739360" cy="194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4E1C-B540-464E-907D-D01470C1106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8640" y="388620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5360" y="2759040"/>
            <a:ext cx="807732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 SONET, all clocks in the network are locked to a master c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" y="2023920"/>
            <a:ext cx="1139760" cy="563760"/>
            <a:chOff x="457200" y="2023920"/>
            <a:chExt cx="1139760" cy="56376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3976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9148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F0BA-8C92-414B-8658-5D458F3918C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79440" y="380880"/>
            <a:ext cx="36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Table 17.1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SONET/SDH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5200" y="914400"/>
            <a:ext cx="8848800" cy="515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DE54-90F3-475B-954F-AF07FF7D16C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2280" y="22860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280" y="1066680"/>
            <a:ext cx="8763120" cy="180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3120" y="4572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13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Byte interlea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20640" y="1905120"/>
            <a:ext cx="7761240" cy="327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9FC2-3929-4E67-8830-3C8F5F028A5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1680" y="38088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14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An STS-3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57360" y="1011240"/>
            <a:ext cx="7724520" cy="500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1676-2321-4A68-A4A8-29B3038054D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5840" y="380880"/>
            <a:ext cx="85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16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Dropping and adding STS-1 frames in an add/drop multiplex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28600" y="2192400"/>
            <a:ext cx="8712360" cy="321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A0E0-7247-478F-8DBD-BBEF678FA1F8}" type="slidenum">
              <a:t>42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" y="76212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1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A simple network using SONE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2240" y="1828800"/>
            <a:ext cx="8875440" cy="418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98F6-DF18-4105-845E-832A9D3C46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7160" y="40644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17-2   SONET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16765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The SONET standard includes four functional layers: the </a:t>
            </a:r>
            <a:r>
              <a:rPr b="1" i="1" lang="en-CA" sz="2800" spc="-1" strike="noStrike">
                <a:solidFill>
                  <a:srgbClr val="ff0000"/>
                </a:solidFill>
                <a:latin typeface="Times New Roman"/>
              </a:rPr>
              <a:t>photonic</a:t>
            </a: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i="1" lang="en-CA" sz="2800" spc="-1" strike="noStrike">
                <a:solidFill>
                  <a:srgbClr val="ff0000"/>
                </a:solidFill>
                <a:latin typeface="Times New Roman"/>
              </a:rPr>
              <a:t>section</a:t>
            </a: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i="1" lang="en-CA" sz="2800" spc="-1" strike="noStrike">
                <a:solidFill>
                  <a:srgbClr val="ff0000"/>
                </a:solidFill>
                <a:latin typeface="Times New Roman"/>
              </a:rPr>
              <a:t>line</a:t>
            </a: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1" i="1" lang="en-CA" sz="2800" spc="-1" strike="noStrike">
                <a:solidFill>
                  <a:srgbClr val="ff0000"/>
                </a:solidFill>
                <a:latin typeface="Times New Roman"/>
              </a:rPr>
              <a:t>path</a:t>
            </a: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 layer. They correspond to both the physical and the data link lay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057560"/>
            <a:ext cx="670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ath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Line Layer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ection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hotonic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vice–Lay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5240" y="358128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CA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D075-A021-415B-B9C8-4E4F7B76706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640" y="3886200"/>
            <a:ext cx="8153640" cy="1440"/>
          </a:xfrm>
          <a:prstGeom prst="line">
            <a:avLst/>
          </a:prstGeom>
          <a:ln cap="sq"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360" y="2759040"/>
            <a:ext cx="807732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ONET defines four layers: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th, line, section, and photon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7200" y="2023920"/>
            <a:ext cx="1139760" cy="563760"/>
            <a:chOff x="457200" y="2023920"/>
            <a:chExt cx="1139760" cy="56376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3976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9148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CA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4DA1-0163-4BB2-AF61-3268273E787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760" y="762120"/>
            <a:ext cx="77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2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SONET layers compared with OSI or the Internet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1840" y="1905120"/>
            <a:ext cx="6751440" cy="379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9F82-DBDB-4BF0-B2B6-C828E74A883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9880" y="38088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Times New Roman"/>
              </a:rPr>
              <a:t>Figure 17.3  </a:t>
            </a:r>
            <a:r>
              <a:rPr b="1" i="1" lang="en-CA" sz="2000" spc="-1" strike="noStrike">
                <a:solidFill>
                  <a:srgbClr val="000000"/>
                </a:solidFill>
                <a:latin typeface="Times New Roman"/>
              </a:rPr>
              <a:t>Device–layer relationship in SO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6324480"/>
            <a:ext cx="876312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11120" y="1219320"/>
            <a:ext cx="7970760" cy="479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1D0C-2EBA-4368-AAE7-253E2951104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Behrouz Forouzan</cp:lastModifiedBy>
  <dcterms:modified xsi:type="dcterms:W3CDTF">2006-03-04T20:21:41Z</dcterms:modified>
  <cp:revision>169</cp:revision>
  <dc:subject/>
  <dc:title>PowerPoint Presentation</dc:title>
</cp:coreProperties>
</file>